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7EF-27AE-42A4-B73C-F4041575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082-2358-43B6-9F1A-66A0A4D5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429-EA84-4C33-A853-1D9AD115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22C-A58B-4A9F-858C-525F4CD0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53C-7928-46A3-A0D0-81B8A6A2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816-6F31-48B3-95E1-07A52887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F2C-3B53-4CE5-B9AC-A17871F9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4D1-5F0F-4B08-9A57-B7D20897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40A-6CC2-4B5A-8A92-1F01D013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CFF-FC4C-41AC-A86E-1FC33D68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EC66-3CB8-4776-A964-959A62F3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686-2F18-4D3B-9BD4-3DDCF602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DC24-CEC0-42CE-B1E8-1E0F2B6A0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065" t="31250" r="25782" b="31250"/>
          <a:stretch/>
        </p:blipFill>
        <p:spPr>
          <a:xfrm>
            <a:off x="380880" y="457200"/>
            <a:ext cx="4800600" cy="224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60948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ndy War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16405" t="25004" r="49219" b="31250"/>
          <a:stretch/>
        </p:blipFill>
        <p:spPr>
          <a:xfrm>
            <a:off x="990720" y="3048120"/>
            <a:ext cx="3352680" cy="3200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24560" y="2895480"/>
            <a:ext cx="2924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3:55:27Z</dcterms:created>
  <dc:creator>Patrick J. Mooney</dc:creator>
  <dc:description/>
  <dc:language>en-US</dc:language>
  <cp:lastModifiedBy>Patrick J. Mooney</cp:lastModifiedBy>
  <dcterms:modified xsi:type="dcterms:W3CDTF">2009-11-10T04:12:10Z</dcterms:modified>
  <cp:revision>3</cp:revision>
  <dc:subject/>
  <dc:title>Slide 1</dc:title>
</cp:coreProperties>
</file>